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8CA-F80E-49EA-BDA9-800D7CD4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926-ECBF-4209-8816-673B029C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15AAF-5E9E-495C-9587-2F325AC9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9FF2F-9241-4916-8028-767E3949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9C352-9960-42A3-A783-146D3EB9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35EE1-03EC-41F7-B15D-9FE8E2E2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E5C5D-F9F4-4655-A656-0A676ED4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00E76-8B6E-4F2B-878B-1DFEF199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2EC95-FE01-4700-829E-8560C771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E78AA-9D03-49D0-AF25-49C2989A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D4E71-24AF-463B-A135-C233FF74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8CA8E-C7F4-4203-A469-B435C0D9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817-32DA-4A60-9367-8E546EE97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1FA9C-3B69-47E9-AFF8-F36B093F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CA193-7F04-474A-A9E3-365F38AA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5E797-3456-4D04-A752-5917F061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76CE6-DD93-4A80-958B-230E126C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6D79E-131B-48F8-8CAB-766E279B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208B2-62CB-47C6-B0BC-CB7D5850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958BD-E92B-4F5D-928D-A54E050D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F9983-1460-4488-8CB3-064B1F4D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CD259-2C43-4A8A-87C8-F2C5C2BC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317A7-4614-4789-B08D-136B6E9C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FB09-AE6A-4115-BB33-B4BEA37BC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B14E7-C31E-42AC-B886-DE262BF3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37F68-7245-491F-8B36-FA1301F7D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5BEE46-D270-443B-AFAB-186756E8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F41F6-48A4-4C29-89E2-F417C0BE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1DD55-2C13-47C5-BBAE-96FA7065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335E1-72BD-43AD-A7AA-CE100885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11B1D-04A2-4A0F-9136-E4E03BF7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0CDA7-CD57-4482-94D9-5F9B8327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86D53-3082-49E4-8B03-6D1F9A6D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AE73E-8B44-40F2-B716-FF393787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D389-BBF2-4DC5-B10F-54F8FC69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0833E-F2F4-4673-81B9-9A66DCC9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B2A013-90BF-4FC9-8F10-A98C40EF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4C6FB-E2B5-40C7-89DF-336C1E0E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FBE59-F416-4DEB-8819-E62594BE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4D489-1EC8-4754-937D-B22DC96D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337C8-2000-4649-9EAB-8A1FDBFA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DA3C0-A681-409C-9F5D-7B28DBD6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BD729-C769-4467-B558-41F0DE33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68FD2-7046-4CB3-9923-DABE53C2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3B026-B0CE-4FDA-AE10-30ACC63D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0B92-35AE-4D49-8A41-00AA9B2F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C400E-894D-4A50-99C8-A2FAB20D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3C13E-C09E-4986-92A8-126DE9F0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DD31B-6F23-4DA3-B588-88FB1856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F2B4C-8E87-4B84-B571-C945B82A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E2B30D-3DB9-4C44-A35A-31F7DEB4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1E53D-FFF0-4FBB-9801-5406E8285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DBC16-381D-435B-B173-4981F9A6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C7601-BC8D-497D-A1A9-2BECF264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63F92-1D51-458F-8433-79E21329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A23AA5-593A-466E-B0D1-A46B4373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342E-32E3-4907-A19D-F8625303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8350B-F43F-4473-A505-35F39B13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D73B8-E5C9-49C2-A6CB-B7EC0E69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EB970-59AB-4288-8D3E-8A188C61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FCF92-FCB9-4718-BDB9-626BFDF0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FD7769-73B1-4434-859C-2379AC15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29B1C-C12E-460F-8DEC-1F360E5E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E2DA05-6C0D-43EB-897C-3507D9D1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35D95-2A86-483B-AEEB-5F6DCDA4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28046-74FB-435D-9F78-F3FA0910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82603-7448-4FD0-8F89-C8BEB1BA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1CD6-1675-4BCA-9076-811EF5DA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124C4-53FD-49F1-B740-972C01DD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D81339-7777-4D07-9DF2-50ABC788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A0D1A-FAF1-4189-9DBF-347AC09F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C37EE8-677C-4FDD-A41D-4CD98C57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C2A7A3-092E-417D-86D0-ACB2F6F4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A0E47-0E2D-4535-B9DB-88D6D79E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9ACD9-BDF1-421C-B79F-2BB42B2B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049AA-3559-495B-A7E1-E1660CFE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5B4B6-9286-4924-AA68-E6B78D75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A7A832-1185-49E7-9FCE-869894F0F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E8EC-03B9-4F79-BC2A-A1B92335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BC5E6F-0242-4448-84AD-BF677828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BF0AC9-DE53-436B-AAFE-86E65C62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12DB9A-0D61-4451-BA21-73832B8B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E9B9DE-E27F-4A4F-B723-DC3D5E7F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39055-9487-4C7C-BBEA-18EE3DB4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06E4CD-F1E6-4C0D-B47A-76D9AFEC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765EFA-7300-419F-BA2A-4B97D487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56AB0B-BA53-4C87-8E72-0FFA616F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CE048-7F3D-4676-BD82-57B31B43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705706-F4BD-4E25-A8E6-40BF1C51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682F-AE5F-466C-B808-91B087E5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37B09-F8ED-460B-BE5D-C7B81E00D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F4204-F0B6-4FB8-BD21-1E264B03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932CE6-FCB6-488D-B937-5FDC169E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6F7A0-A416-4882-BAC4-D176B1A5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E43EBE-72D4-464A-8ABF-11C5747E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F20360-96F4-4074-908E-42E62C66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6C5830-5942-4B6D-9F16-07787750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FAA050-FB95-4972-9DE2-4FF66623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AC7A1-719C-4064-BFE2-C8C9DB0F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CAA52-6137-44BB-992F-531ED66D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DB64-30FF-47A1-A8CC-AD7D0DE8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B213F-9F3E-4E95-A1E6-1EFA01530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900412-5761-4080-B28E-22240097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FC683A-41D9-4E8F-A2E0-71554505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85A7D4-0806-4B9D-A713-F4674D543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FAD27B-C580-4DFB-B6B0-F3106D69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D0553A-2FAE-4583-9D56-0894E1D5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421599-3148-487F-8EF7-2199F9B6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DCC37D-1C1A-46AD-B49E-9DAED8CC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DCB3D9-632D-47F4-A0CD-BC31FB55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CB1453-9BB5-4797-A1EF-D6B483CE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DF83-8720-4448-A867-86701A35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CFFE-DFB7-45C7-8BFD-31DAF1A5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B197F-6508-4C78-8A11-357CC29F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DCF659-675E-43E4-8104-1E19F0BE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97D8F-1361-47DB-8D44-CEF0E7D5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5601CC-079D-4C58-A2D5-631CCCE6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ACB04B-940A-4EAD-83EC-498DC8CB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33B6F7-E526-4C29-ABD7-FA68F3A36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F9AC85-D5A1-4EFA-9227-ABE5F2BF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5053E6-AF68-438E-9AAD-158BCA25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B14567-A0D9-413C-B77C-E69D2F5E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E590ED-FBDB-42E4-A866-223367A7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9EB9-B648-4015-A6FD-5B3A7BF0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5FDA0-FF34-4355-B719-5E193AB3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ADA9B9-596F-4037-BB5D-5101E756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7D7673-DE3B-4E25-9EE5-7B5890D0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033B3A-5AC9-41F0-931C-A7702F96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34732D-BFF0-4E05-BE58-A5C74DF7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E20767-CAB2-4354-8EF6-0C786EC23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E95482-90B2-4C89-BF03-F4531681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DEDEB5-DD92-4BF4-BA26-AADA7712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0FB013-23C8-4F46-AAD4-CCC35630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B5A238-95BD-4F19-9D8C-B655B1CF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18AD-8889-46B7-8D87-E13EBB18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1713F-3E74-4AFE-BD7D-7645D109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26BBC-B629-4713-B42F-EE330F32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079BE5-562B-411E-B52B-56CC0B6B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09D2E0-70D7-4613-B18E-2A23BA23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A4EC6A-23F7-4DC5-A77A-AC8AEFFB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A105FD-C269-4B6C-AF60-88F16952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5223B4-8D85-4680-8186-6972D381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15597-C0C4-4E78-B418-2FA35CEE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85459E-EEBB-4BCF-A1C7-9DA500E6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B0CDAB-B834-4618-9851-B68B62C7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B8A0-DE17-4DAD-9FAD-E10910AD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DF90BC-E735-419F-83B1-365F2B45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0ED7B7-1806-4F75-95C6-22CD6BCF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80EBF2-EF45-412A-A711-8EA8335B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C11FA2-8E80-4F6F-B844-0BE9A3CF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512713-6D10-415F-BB81-CAF7C917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FE3D24-5FB6-4B4F-B0BB-BFCFA1BE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8067A3-1148-432A-BB0A-6448C33F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81683C-8D35-454D-B92B-D45239EF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B651CD-9FB2-41D9-9DBE-C195DF79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8CDDE7-B9B3-421C-9527-68D7C401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120F-9AA9-403A-89B0-3F50ACA7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2CB7B4-CBFF-4884-9CE6-1406F58D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243D8C-43DC-4B22-A638-7C0787D52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2BDE74-54CF-4302-8970-CF8FBC64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959623-7CB3-4659-9683-680AD579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210CF3-0BD2-4AF4-ACE5-D1C7083C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43A492-9A26-4E35-95E1-6DECA9CD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2B59B1-FA27-4D96-AD1F-C9CC6175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309A31-CB1F-444B-A978-32A21EA8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B5B1D7-62A2-4F6C-AAF1-7EBDBFA9F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0B45C5-39E4-4BC5-9588-1D74AAC1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A7D765-FF12-4B63-A3CB-225616AD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F8C196-E94D-4BC9-81A5-85989E3A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553646-5D95-4381-8695-42F3A974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6AE-7B52-433A-97DF-17B321C4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A36F7-BD37-4E3B-A2F8-F5CFBDFD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666BB-71F2-4A23-8009-4DAE8092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9B4CF-1F9D-435C-A702-14104869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2C24-6751-4D18-A996-79582F43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4CDC5-4ADA-4120-BD48-574D8900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D0C45-9A87-4EA9-931B-58C8A7B6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6D01D-5CCB-448E-8DE6-1FC1EAD0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8D7F0-DE1A-48AB-B4C4-83F34A2E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2B70C-66CB-47B6-9DEC-AA9195B9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8CB94-5FBC-449D-B71B-666B22B8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4D45D-6EE5-442C-8367-8C268F34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27676-9A08-4CCF-9CA1-F94C437D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17657-16D1-467B-BD6F-93D9FDD0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7435B-DBA8-418B-BFB5-2852CA16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B3C-934E-44AE-A4CE-2DC1F0C0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2B722-C97E-403D-AA5E-03903936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BAD0C-5FDE-4722-B352-99686A08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F90E9-8587-4545-90C7-B07E8A7A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2153C-F6DA-4D25-B533-70729F93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5B2E6-D565-4D29-9814-C13EA4BF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EF367-0A61-43DA-A9BE-415182D8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BF822-14AC-445C-8946-860F96DA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F072-5433-48E4-A344-DB35855A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6F182-E91F-4F70-85F7-F1F87D0E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77A9A-36DA-4BA8-9975-015E787A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F550-4C56-406F-ABD4-538190A9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4CABC-FCA7-4868-BCDD-0EDBBE0B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26174-7FEE-42DC-AA3B-10EA0CA7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AF60B-277F-425B-BF83-553615EE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A0933-9179-4E9C-B96D-EE0EC7CE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B099C-9074-47FC-8322-2FE6B92B4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1341A-C0E6-4427-A64F-E9527B74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B39AC-2C00-42CB-ACB0-4B45E70B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43AD4-DFFD-4117-A3A1-AC5BA177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EACE9-E0B7-4B7C-B21D-0638082A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59B09-3426-4087-8B4B-09A9BEB6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6EB-F388-4E57-90F7-E816D24C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5FC70-FFB2-489E-AB2C-52137622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B8023-07BF-4117-99A3-6471119E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7CDB8-EC9E-4CCA-A289-DF04E6633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09E45-1EF4-4776-B527-D3D55F7D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30221-5181-4C7E-98DE-E05AAA64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8FAAC-27F8-4166-AFF6-B8C2B2E3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CF347-BFAE-4023-AEED-290948D8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1C010-9F80-4A6A-834B-7405E67C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86549-6831-418F-BB1F-09EC53F2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D170F-069D-40AB-9815-E79E2400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0843-82B4-4395-8E51-9D549E18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969AB-5CB4-4DAD-BCB9-1726D487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04057-DFAD-47B3-99B2-551C1E3C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60DD6-B595-4F23-9980-F5B1D433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F5CAE-4190-4071-96B5-EB93C954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F1359-EF2F-402D-8D43-44C39C3A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2EE1D-50C8-46DE-9BFB-2A659EC8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0F7B3-57FF-4A26-9184-69FD9B56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37212-0DF3-44E7-8A00-4C5EF26D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6508C-5751-4433-A0CE-B0A19B54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249E9-798C-4248-B774-ADB3BB47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049A-E56C-4D5B-8CE2-C00A0667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2060B-ED8D-4A63-BEB2-28B9D559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26D88-2454-49D1-9E19-BB787853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E37CD-E654-4010-8076-8D404295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C8562-2D09-4950-88B2-06DB8894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34C35-8C71-4214-96F2-FC4E4557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FB8FC-8BD8-4EB2-A30F-B39DB07E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2F26F-866A-4CBE-AE4D-0F813CD60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027E2-D22D-4460-97E7-49651BCB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1E5F6-1719-48B4-8E61-3955EA6D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19BFA-51E4-4199-ACC9-29E00A24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FF4C-4B3B-4391-BA60-6A2ABAD0F0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888B-4568-49A8-99F4-82DDEB57B1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F19B-E847-45EF-B0BC-5959DAC268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3788-42A7-455A-A26F-8B704BEC1F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7AD2-7872-4B32-AECD-4FF2EDFEE3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DCA2-29AF-42E5-95A6-3B49250F31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FB0A-F9F3-43D4-863F-AFB6D25DB4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B339-B722-47B6-A22E-1843838BC9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BBA7-B9C6-4EB7-84F0-88C1746286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60AA-6F04-4EF0-BBF7-E69A495A3E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F3F6-0319-470C-9DFF-D07FE49FCA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481E1-BEF8-4D8E-A970-1C3FA3AB86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137F-34AA-49E5-89E8-E39E3F2D28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ED62-DE22-4FDB-BDAE-127FA5CC32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13A1-C8FB-4BA1-90E6-D1E4342CF6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CE2D-548F-48BA-B2CC-23023CD569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260B-C55F-456F-B6AB-9E9F87D3E4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99C9-6263-4491-B155-C2FB31FEEA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AA04-8566-47A4-A669-DD5D4F776C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322E7-D2D1-4FA8-8618-6C5F6C3740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AD43-D00B-4742-AA76-B920A21128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8A74-B427-4B08-8B8F-D301881072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1BE1-2298-4DD1-B8B2-CEC32ACE4D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17FC-B1D4-4CEF-A88B-2B699426D7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8DD9-5B50-4048-BA44-2DF7BCCDA0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F82A-5B0E-4802-AA9F-BCBA322BA2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8024-9104-4AC5-99E6-C399170785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6FD0-7085-48B7-AC55-0EF60FF443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1B10-1F90-44B1-9A1D-9070DA5DF1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E880-53C3-4C18-A43E-CE24A78D8B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D647-7312-45A4-BFA4-EFC872AA29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142F-C4AD-4A80-8C19-07201E6F84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3064-3836-4DE6-A8C6-64B2ACF2FC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F229-005C-455A-8489-752E2D0437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AA82-AD36-4150-A3D6-89EDF8ABE8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EECB-52E2-4EBD-AB35-311BEE4856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45EE-CAFB-43A7-AE75-5CCAE8EE40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AF54-A89D-4582-BF2A-0F4A86D6AC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76CF-B17F-4EA4-B755-A409B9E183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90360" y="2590920"/>
            <a:ext cx="89632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9" name="图片 13313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192800" cy="461952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2"/>
          <a:stretch/>
        </p:blipFill>
        <p:spPr>
          <a:xfrm>
            <a:off x="2268360" y="1728720"/>
            <a:ext cx="1079640" cy="3207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3"/>
          <a:stretch/>
        </p:blipFill>
        <p:spPr>
          <a:xfrm>
            <a:off x="3851280" y="22622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4"/>
          <a:stretch/>
        </p:blipFill>
        <p:spPr>
          <a:xfrm>
            <a:off x="2268360" y="2781360"/>
            <a:ext cx="790920" cy="3207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5"/>
          <a:stretch/>
        </p:blipFill>
        <p:spPr>
          <a:xfrm>
            <a:off x="5651640" y="3846600"/>
            <a:ext cx="792000" cy="3207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6"/>
          <a:stretch/>
        </p:blipFill>
        <p:spPr>
          <a:xfrm>
            <a:off x="4140360" y="4897440"/>
            <a:ext cx="792000" cy="3207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7"/>
          <a:stretch/>
        </p:blipFill>
        <p:spPr>
          <a:xfrm>
            <a:off x="4859280" y="5459400"/>
            <a:ext cx="792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8" name="图片 14338" descr=""/>
          <p:cNvPicPr/>
          <p:nvPr/>
        </p:nvPicPr>
        <p:blipFill>
          <a:blip r:embed="rId1"/>
          <a:stretch/>
        </p:blipFill>
        <p:spPr>
          <a:xfrm>
            <a:off x="42840" y="1071720"/>
            <a:ext cx="905832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11" name="图片 15361" descr=""/>
          <p:cNvPicPr/>
          <p:nvPr/>
        </p:nvPicPr>
        <p:blipFill>
          <a:blip r:embed="rId1"/>
          <a:stretch/>
        </p:blipFill>
        <p:spPr>
          <a:xfrm>
            <a:off x="447840" y="1028880"/>
            <a:ext cx="8248320" cy="480060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2"/>
          <a:stretch/>
        </p:blipFill>
        <p:spPr>
          <a:xfrm>
            <a:off x="755640" y="98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3"/>
          <a:stretch/>
        </p:blipFill>
        <p:spPr>
          <a:xfrm>
            <a:off x="755640" y="198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4"/>
          <a:stretch/>
        </p:blipFill>
        <p:spPr>
          <a:xfrm>
            <a:off x="755640" y="29242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5"/>
          <a:stretch/>
        </p:blipFill>
        <p:spPr>
          <a:xfrm>
            <a:off x="755640" y="3875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6"/>
          <a:stretch/>
        </p:blipFill>
        <p:spPr>
          <a:xfrm>
            <a:off x="755640" y="486900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24" name="组合 22532"/>
          <p:cNvGrpSpPr/>
          <p:nvPr/>
        </p:nvGrpSpPr>
        <p:grpSpPr>
          <a:xfrm>
            <a:off x="66600" y="1360440"/>
            <a:ext cx="9010800" cy="3282840"/>
            <a:chOff x="66600" y="1360440"/>
            <a:chExt cx="9010800" cy="3282840"/>
          </a:xfrm>
        </p:grpSpPr>
        <p:pic>
          <p:nvPicPr>
            <p:cNvPr id="1025" name="图片 22529" descr=""/>
            <p:cNvPicPr/>
            <p:nvPr/>
          </p:nvPicPr>
          <p:blipFill>
            <a:blip r:embed="rId1"/>
            <a:stretch/>
          </p:blipFill>
          <p:spPr>
            <a:xfrm>
              <a:off x="3059280" y="1360440"/>
              <a:ext cx="288108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图片 22531" descr=""/>
            <p:cNvPicPr/>
            <p:nvPr/>
          </p:nvPicPr>
          <p:blipFill>
            <a:blip r:embed="rId2"/>
            <a:stretch/>
          </p:blipFill>
          <p:spPr>
            <a:xfrm>
              <a:off x="66600" y="2214720"/>
              <a:ext cx="9010800" cy="2428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684360" y="25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684360" y="3025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684360" y="34434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684360" y="38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684360" y="432108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4" name="图片 21506" descr=""/>
          <p:cNvPicPr/>
          <p:nvPr/>
        </p:nvPicPr>
        <p:blipFill>
          <a:blip r:embed="rId1"/>
          <a:stretch/>
        </p:blipFill>
        <p:spPr>
          <a:xfrm>
            <a:off x="237960" y="2043000"/>
            <a:ext cx="8668080" cy="2772000"/>
          </a:xfrm>
          <a:prstGeom prst="rect">
            <a:avLst/>
          </a:prstGeom>
          <a:ln w="0">
            <a:noFill/>
          </a:ln>
        </p:spPr>
      </p:pic>
      <p:sp>
        <p:nvSpPr>
          <p:cNvPr id="1035" name="直接连接符 21507"/>
          <p:cNvSpPr/>
          <p:nvPr/>
        </p:nvSpPr>
        <p:spPr>
          <a:xfrm>
            <a:off x="1879560" y="2752560"/>
            <a:ext cx="2232000" cy="935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直接连接符 21508"/>
          <p:cNvSpPr/>
          <p:nvPr/>
        </p:nvSpPr>
        <p:spPr>
          <a:xfrm flipV="1">
            <a:off x="4859280" y="3645000"/>
            <a:ext cx="2449440" cy="71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直接连接符 21509"/>
          <p:cNvSpPr/>
          <p:nvPr/>
        </p:nvSpPr>
        <p:spPr>
          <a:xfrm flipV="1">
            <a:off x="1720800" y="2708280"/>
            <a:ext cx="2419560" cy="5335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直接连接符 21510"/>
          <p:cNvSpPr/>
          <p:nvPr/>
        </p:nvSpPr>
        <p:spPr>
          <a:xfrm>
            <a:off x="5364000" y="2779560"/>
            <a:ext cx="1944720" cy="18018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直接连接符 21511"/>
          <p:cNvSpPr/>
          <p:nvPr/>
        </p:nvSpPr>
        <p:spPr>
          <a:xfrm>
            <a:off x="1835280" y="3716280"/>
            <a:ext cx="2232000" cy="4334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直接连接符 21512"/>
          <p:cNvSpPr/>
          <p:nvPr/>
        </p:nvSpPr>
        <p:spPr>
          <a:xfrm flipV="1">
            <a:off x="5219640" y="3284280"/>
            <a:ext cx="2089080" cy="865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直接连接符 21513"/>
          <p:cNvSpPr/>
          <p:nvPr/>
        </p:nvSpPr>
        <p:spPr>
          <a:xfrm>
            <a:off x="1476360" y="4149720"/>
            <a:ext cx="2590920" cy="431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直接连接符 21514"/>
          <p:cNvSpPr/>
          <p:nvPr/>
        </p:nvSpPr>
        <p:spPr>
          <a:xfrm flipV="1">
            <a:off x="4932360" y="4149720"/>
            <a:ext cx="2376360" cy="5047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直接连接符 21515"/>
          <p:cNvSpPr/>
          <p:nvPr/>
        </p:nvSpPr>
        <p:spPr>
          <a:xfrm flipV="1">
            <a:off x="1619280" y="3213000"/>
            <a:ext cx="2448000" cy="1440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直接连接符 21516"/>
          <p:cNvSpPr/>
          <p:nvPr/>
        </p:nvSpPr>
        <p:spPr>
          <a:xfrm flipV="1">
            <a:off x="4859280" y="2781000"/>
            <a:ext cx="2449440" cy="431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47" name="组合 20483"/>
          <p:cNvGrpSpPr/>
          <p:nvPr/>
        </p:nvGrpSpPr>
        <p:grpSpPr>
          <a:xfrm>
            <a:off x="611280" y="720720"/>
            <a:ext cx="7480080" cy="6084720"/>
            <a:chOff x="611280" y="720720"/>
            <a:chExt cx="7480080" cy="6084720"/>
          </a:xfrm>
        </p:grpSpPr>
        <p:pic>
          <p:nvPicPr>
            <p:cNvPr id="1048" name="图片 20481" descr=""/>
            <p:cNvPicPr/>
            <p:nvPr/>
          </p:nvPicPr>
          <p:blipFill>
            <a:blip r:embed="rId1"/>
            <a:stretch/>
          </p:blipFill>
          <p:spPr>
            <a:xfrm>
              <a:off x="611280" y="720720"/>
              <a:ext cx="7277040" cy="155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图片 20482" descr=""/>
            <p:cNvPicPr/>
            <p:nvPr/>
          </p:nvPicPr>
          <p:blipFill>
            <a:blip r:embed="rId2"/>
            <a:stretch/>
          </p:blipFill>
          <p:spPr>
            <a:xfrm>
              <a:off x="957240" y="2176560"/>
              <a:ext cx="7134120" cy="462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1187280" y="1484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4"/>
          <a:stretch/>
        </p:blipFill>
        <p:spPr>
          <a:xfrm>
            <a:off x="1187280" y="2637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5"/>
          <a:stretch/>
        </p:blipFill>
        <p:spPr>
          <a:xfrm>
            <a:off x="1187280" y="378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6"/>
          <a:stretch/>
        </p:blipFill>
        <p:spPr>
          <a:xfrm>
            <a:off x="1187280" y="4941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7"/>
          <a:stretch/>
        </p:blipFill>
        <p:spPr>
          <a:xfrm>
            <a:off x="1187280" y="609300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7" name="图片 8193" descr=""/>
          <p:cNvPicPr/>
          <p:nvPr/>
        </p:nvPicPr>
        <p:blipFill>
          <a:blip r:embed="rId1"/>
          <a:stretch/>
        </p:blipFill>
        <p:spPr>
          <a:xfrm>
            <a:off x="281160" y="1843200"/>
            <a:ext cx="8581680" cy="31716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826920" y="3025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4"/>
          <a:stretch/>
        </p:blipFill>
        <p:spPr>
          <a:xfrm>
            <a:off x="826920" y="38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5"/>
          <a:stretch/>
        </p:blipFill>
        <p:spPr>
          <a:xfrm>
            <a:off x="900000" y="42642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6"/>
          <a:stretch/>
        </p:blipFill>
        <p:spPr>
          <a:xfrm>
            <a:off x="900000" y="46814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065" name="组合 9219"/>
          <p:cNvGrpSpPr/>
          <p:nvPr/>
        </p:nvGrpSpPr>
        <p:grpSpPr>
          <a:xfrm>
            <a:off x="309600" y="1219320"/>
            <a:ext cx="8524800" cy="4881600"/>
            <a:chOff x="309600" y="1219320"/>
            <a:chExt cx="8524800" cy="4881600"/>
          </a:xfrm>
        </p:grpSpPr>
        <p:pic>
          <p:nvPicPr>
            <p:cNvPr id="1066" name="图片 9217" descr=""/>
            <p:cNvPicPr/>
            <p:nvPr/>
          </p:nvPicPr>
          <p:blipFill>
            <a:blip r:embed="rId1"/>
            <a:stretch/>
          </p:blipFill>
          <p:spPr>
            <a:xfrm>
              <a:off x="309600" y="1219320"/>
              <a:ext cx="8524800" cy="44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7" name="图片 9218" descr=""/>
            <p:cNvPicPr/>
            <p:nvPr/>
          </p:nvPicPr>
          <p:blipFill>
            <a:blip r:embed="rId2"/>
            <a:stretch/>
          </p:blipFill>
          <p:spPr>
            <a:xfrm>
              <a:off x="1617840" y="5805360"/>
              <a:ext cx="6914880" cy="29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900000" y="1628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900000" y="2421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900000" y="32846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6"/>
          <a:stretch/>
        </p:blipFill>
        <p:spPr>
          <a:xfrm>
            <a:off x="900000" y="407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7"/>
          <a:stretch/>
        </p:blipFill>
        <p:spPr>
          <a:xfrm>
            <a:off x="855720" y="53006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5" name="图片 10241" descr=""/>
          <p:cNvPicPr/>
          <p:nvPr/>
        </p:nvPicPr>
        <p:blipFill>
          <a:blip r:embed="rId1"/>
          <a:stretch/>
        </p:blipFill>
        <p:spPr>
          <a:xfrm>
            <a:off x="111240" y="1855800"/>
            <a:ext cx="8853480" cy="32781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2"/>
          <a:stretch/>
        </p:blipFill>
        <p:spPr>
          <a:xfrm>
            <a:off x="684360" y="22334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684360" y="2622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4"/>
          <a:stretch/>
        </p:blipFill>
        <p:spPr>
          <a:xfrm>
            <a:off x="684360" y="30099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5"/>
          <a:stretch/>
        </p:blipFill>
        <p:spPr>
          <a:xfrm>
            <a:off x="684360" y="34146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6"/>
          <a:stretch/>
        </p:blipFill>
        <p:spPr>
          <a:xfrm>
            <a:off x="684360" y="37893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3" name="图片 12289" descr=""/>
          <p:cNvPicPr/>
          <p:nvPr/>
        </p:nvPicPr>
        <p:blipFill>
          <a:blip r:embed="rId1"/>
          <a:stretch/>
        </p:blipFill>
        <p:spPr>
          <a:xfrm>
            <a:off x="100080" y="1031760"/>
            <a:ext cx="8943840" cy="51339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2"/>
          <a:stretch/>
        </p:blipFill>
        <p:spPr>
          <a:xfrm>
            <a:off x="582480" y="43369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3"/>
          <a:stretch/>
        </p:blipFill>
        <p:spPr>
          <a:xfrm>
            <a:off x="611280" y="47242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4"/>
          <a:stretch/>
        </p:blipFill>
        <p:spPr>
          <a:xfrm>
            <a:off x="611280" y="512748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5"/>
          <a:stretch/>
        </p:blipFill>
        <p:spPr>
          <a:xfrm>
            <a:off x="611280" y="5516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6"/>
          <a:stretch/>
        </p:blipFill>
        <p:spPr>
          <a:xfrm>
            <a:off x="611280" y="589104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1" name="图片 11266" descr=""/>
          <p:cNvPicPr/>
          <p:nvPr/>
        </p:nvPicPr>
        <p:blipFill>
          <a:blip r:embed="rId1"/>
          <a:stretch/>
        </p:blipFill>
        <p:spPr>
          <a:xfrm>
            <a:off x="755640" y="934920"/>
            <a:ext cx="7824960" cy="53737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3"/>
          <a:stretch/>
        </p:blipFill>
        <p:spPr>
          <a:xfrm>
            <a:off x="1403280" y="18590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4"/>
          <a:stretch/>
        </p:blipFill>
        <p:spPr>
          <a:xfrm>
            <a:off x="1403280" y="2349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5"/>
          <a:stretch/>
        </p:blipFill>
        <p:spPr>
          <a:xfrm>
            <a:off x="1403280" y="278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6"/>
          <a:stretch/>
        </p:blipFill>
        <p:spPr>
          <a:xfrm>
            <a:off x="1432080" y="324180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50:31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